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324-E748-4053-91FE-6C18CD5B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00E-9621-4ACC-8F14-D02D3A2B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48D-FB63-4510-B9FC-61AAC621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AA6-AA13-413F-948E-BEDCC7DA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1DB-8C73-45F0-8359-82B190CF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3C5-87E0-4186-BCBF-BECDD890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00B-0F27-4428-89EF-05E3EDA2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888-A079-4C15-8D1A-12953FA8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EE8-F123-4576-A4F6-519487C2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A1B-9B1E-4FF2-9822-658131C1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9B8-C9E7-4EA1-BE20-99A68DF1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7BE-7F62-4A2F-80D0-E117B38A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394E-51E3-4B04-8ED3-E4C34953E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rallel Lines Cut by a Transver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:  Make posters showing all the angle relations formed by a pair of parallel lines cut by a transversal.  Be sure to color code definitions and angles, and state the relationships between all possible an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 flipV="1">
            <a:off x="2971800" y="4190760"/>
            <a:ext cx="3124080" cy="14475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 flipV="1">
            <a:off x="4343400" y="4876560"/>
            <a:ext cx="3124080" cy="14475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4038480" y="4572000"/>
            <a:ext cx="3048120" cy="106668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572000" y="4495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267080" y="46483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876920" y="4648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572000" y="4800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172200" y="5029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867280" y="52578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6172200" y="54864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629400" y="5257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34320" y="6248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th &amp; Smarr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rallel Lines Cut by a Transver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ory:  Play “Shout Out!!”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diagram below and commands on strips of paper (with correct answers provided), players take turns being the leader to read a command.  The first player to shout out a correct answer to the command, receives a point.  The next player becomes the next leader. Possible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 angle supple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ry to angl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 angle congru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gle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985080" y="62769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th &amp; Smarr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5"/>
          <p:cNvGrpSpPr/>
          <p:nvPr/>
        </p:nvGrpSpPr>
        <p:grpSpPr>
          <a:xfrm>
            <a:off x="5105520" y="4724280"/>
            <a:ext cx="3189240" cy="1486080"/>
            <a:chOff x="5105520" y="4724280"/>
            <a:chExt cx="3189240" cy="1486080"/>
          </a:xfrm>
        </p:grpSpPr>
        <p:sp>
          <p:nvSpPr>
            <p:cNvPr id="59" name="Line 6"/>
            <p:cNvSpPr/>
            <p:nvPr/>
          </p:nvSpPr>
          <p:spPr>
            <a:xfrm flipV="1">
              <a:off x="5181480" y="4724280"/>
              <a:ext cx="2594160" cy="1292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5762520" y="4911840"/>
              <a:ext cx="2532240" cy="9525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8"/>
            <p:cNvSpPr/>
            <p:nvPr/>
          </p:nvSpPr>
          <p:spPr>
            <a:xfrm>
              <a:off x="6516720" y="4984920"/>
              <a:ext cx="31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9"/>
            <p:cNvSpPr/>
            <p:nvPr/>
          </p:nvSpPr>
          <p:spPr>
            <a:xfrm>
              <a:off x="6327720" y="5113440"/>
              <a:ext cx="31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0"/>
            <p:cNvSpPr/>
            <p:nvPr/>
          </p:nvSpPr>
          <p:spPr>
            <a:xfrm>
              <a:off x="6770520" y="5097600"/>
              <a:ext cx="31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1"/>
            <p:cNvSpPr/>
            <p:nvPr/>
          </p:nvSpPr>
          <p:spPr>
            <a:xfrm>
              <a:off x="6516720" y="5257800"/>
              <a:ext cx="31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5867280" y="533232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3"/>
            <p:cNvSpPr/>
            <p:nvPr/>
          </p:nvSpPr>
          <p:spPr>
            <a:xfrm>
              <a:off x="5662440" y="5457960"/>
              <a:ext cx="31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4"/>
            <p:cNvSpPr/>
            <p:nvPr/>
          </p:nvSpPr>
          <p:spPr>
            <a:xfrm>
              <a:off x="5867280" y="563868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5"/>
            <p:cNvSpPr/>
            <p:nvPr/>
          </p:nvSpPr>
          <p:spPr>
            <a:xfrm>
              <a:off x="6080040" y="544212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>
              <a:off x="5105520" y="5257800"/>
              <a:ext cx="2531880" cy="9525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rallel Lines Cut by a Transver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sthetic:  Walk I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the diagram below on the floor with masking tape.  Two players stand in assigned angles.  As a team, they have to tell what they are called (ie: vertical angles) and their relationships (ie: congruent).  Use all angle combinations, even if there is not a name or relationship.  (ie: 2 and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934320" y="62485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th &amp; Smarr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5"/>
          <p:cNvGrpSpPr/>
          <p:nvPr/>
        </p:nvGrpSpPr>
        <p:grpSpPr>
          <a:xfrm>
            <a:off x="4822920" y="2193840"/>
            <a:ext cx="4208400" cy="3111480"/>
            <a:chOff x="4822920" y="2193840"/>
            <a:chExt cx="4208400" cy="3111480"/>
          </a:xfrm>
        </p:grpSpPr>
        <p:pic>
          <p:nvPicPr>
            <p:cNvPr id="74" name="Picture 6" descr="AG00315_"/>
            <p:cNvPicPr/>
            <p:nvPr/>
          </p:nvPicPr>
          <p:blipFill>
            <a:blip r:embed="rId1"/>
            <a:stretch/>
          </p:blipFill>
          <p:spPr>
            <a:xfrm>
              <a:off x="6570720" y="2193840"/>
              <a:ext cx="98100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7" descr="AG00317_"/>
            <p:cNvPicPr/>
            <p:nvPr/>
          </p:nvPicPr>
          <p:blipFill>
            <a:blip r:embed="rId2"/>
            <a:stretch/>
          </p:blipFill>
          <p:spPr>
            <a:xfrm>
              <a:off x="5648400" y="4092480"/>
              <a:ext cx="9810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Line 8"/>
            <p:cNvSpPr/>
            <p:nvPr/>
          </p:nvSpPr>
          <p:spPr>
            <a:xfrm flipV="1">
              <a:off x="4923000" y="2489040"/>
              <a:ext cx="3423960" cy="2197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>
              <a:off x="5689440" y="2808360"/>
              <a:ext cx="3341880" cy="1617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0"/>
            <p:cNvSpPr/>
            <p:nvPr/>
          </p:nvSpPr>
          <p:spPr>
            <a:xfrm>
              <a:off x="6753240" y="3065400"/>
              <a:ext cx="4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1"/>
            <p:cNvSpPr/>
            <p:nvPr/>
          </p:nvSpPr>
          <p:spPr>
            <a:xfrm>
              <a:off x="6464160" y="3230640"/>
              <a:ext cx="4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2"/>
            <p:cNvSpPr/>
            <p:nvPr/>
          </p:nvSpPr>
          <p:spPr>
            <a:xfrm>
              <a:off x="7101000" y="3218040"/>
              <a:ext cx="41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3"/>
            <p:cNvSpPr/>
            <p:nvPr/>
          </p:nvSpPr>
          <p:spPr>
            <a:xfrm>
              <a:off x="6757920" y="3389400"/>
              <a:ext cx="4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4"/>
            <p:cNvSpPr/>
            <p:nvPr/>
          </p:nvSpPr>
          <p:spPr>
            <a:xfrm>
              <a:off x="5827680" y="352260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5"/>
            <p:cNvSpPr/>
            <p:nvPr/>
          </p:nvSpPr>
          <p:spPr>
            <a:xfrm>
              <a:off x="5557680" y="3824280"/>
              <a:ext cx="4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5827680" y="404352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7"/>
            <p:cNvSpPr/>
            <p:nvPr/>
          </p:nvSpPr>
          <p:spPr>
            <a:xfrm>
              <a:off x="6100920" y="379584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>
              <a:off x="4822920" y="3395520"/>
              <a:ext cx="3341520" cy="1619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5:47:02Z</dcterms:created>
  <dc:creator>CABELL BOE</dc:creator>
  <dc:description/>
  <dc:language>en-US</dc:language>
  <cp:lastModifiedBy>CABELL BOE</cp:lastModifiedBy>
  <dcterms:modified xsi:type="dcterms:W3CDTF">2009-06-01T15:47:04Z</dcterms:modified>
  <cp:revision>1</cp:revision>
  <dc:subject/>
  <dc:title>Parallel Lines Cut by a Transversal</dc:title>
</cp:coreProperties>
</file>